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4.gif" ContentType="image/gif"/>
  <Override PartName="/ppt/media/image1.gif" ContentType="image/gif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6B1-963B-4568-95DA-2D14A724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C72B-CC98-438A-8F21-169B7897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8D9-4023-42DF-96CE-1006669F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CDE-A3B4-4338-A848-B1E8590A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421-EDBB-4067-BBC7-A69C924F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3B9C-B9FA-49F4-BB07-39728AD3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2A4-C9A8-4E2B-A01E-E11BB350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3AC-6DF6-4669-8AFD-09833ED6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E2D-DA07-43E6-851E-33C6DEAD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A9A-2A3E-473B-A0E3-A1DD33F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137F-27BF-46D7-9C81-A77E79B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47A-231B-4131-96FD-9924ADE3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973B-CB79-4CA2-B5A7-A035AEA35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www.abc.net.au/reslib/200904/r357662_1646878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paulwhitephotos.com.au/album/MurrayRiver/slides/Picture%20013.html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photos.igougo.com/pictures-photos-l4314-s2-p21292-Black_Swans.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photos.igougo.com/pictures-photos-l4314-s2-p21294-Flying_Pelican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dhills.com.au/tourism/imagegallery/large/pic55.htm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aulwhitephotos.com.au/album/MurrayRiver/slides/MRV%20(32).html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paulwhitephotos.com.au/album/MurrayRiver/slides/PWP%20(24).html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photos.igougo.com/pictures-photos-l4314-s2-p21279-Kangroo_and_Joey.html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paulwhitephotos.com.au/album/MurrayRiver/slides/MRV%20(25).html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www.paulwhitephotos.com.au/album/MurrayRiver/slides/MRV%20(31).html" TargetMode="External"/><Relationship Id="rId10" Type="http://schemas.openxmlformats.org/officeDocument/2006/relationships/image" Target="../media/image17.jpeg"/><Relationship Id="rId11" Type="http://schemas.openxmlformats.org/officeDocument/2006/relationships/hyperlink" Target="http://www.paulwhitephotos.com.au/album/MurrayRiver/slides/MRV%20(29).html" TargetMode="External"/><Relationship Id="rId12" Type="http://schemas.openxmlformats.org/officeDocument/2006/relationships/image" Target="../media/image18.jpeg"/><Relationship Id="rId13" Type="http://schemas.openxmlformats.org/officeDocument/2006/relationships/hyperlink" Target="http://photos.igougo.com/pictures-photos-l4314-s2-p21281-The_Unforgettable_7.html" TargetMode="External"/><Relationship Id="rId14" Type="http://schemas.openxmlformats.org/officeDocument/2006/relationships/image" Target="../media/image19.jpeg"/><Relationship Id="rId15" Type="http://schemas.openxmlformats.org/officeDocument/2006/relationships/hyperlink" Target="http://www.paulwhitephotos.com.au/album/MurrayRiver/slides/Picture%20022.html" TargetMode="External"/><Relationship Id="rId16" Type="http://schemas.openxmlformats.org/officeDocument/2006/relationships/image" Target="../media/image20.jpeg"/><Relationship Id="rId17" Type="http://schemas.openxmlformats.org/officeDocument/2006/relationships/hyperlink" Target="http://www.paulwhitephotos.com.au/album/MurrayRiver/slides/MRV.html" TargetMode="External"/><Relationship Id="rId18" Type="http://schemas.openxmlformats.org/officeDocument/2006/relationships/image" Target="../media/image21.jpeg"/><Relationship Id="rId19" Type="http://schemas.openxmlformats.org/officeDocument/2006/relationships/hyperlink" Target="http://www.adhills.com.au/tourism/imagegallery/large/pic6.html" TargetMode="External"/><Relationship Id="rId20" Type="http://schemas.openxmlformats.org/officeDocument/2006/relationships/image" Target="../media/image22.jpeg"/><Relationship Id="rId21" Type="http://schemas.openxmlformats.org/officeDocument/2006/relationships/hyperlink" Target="http://www.adhills.com.au/tourism/imagegallery/large/pic56.html" TargetMode="External"/><Relationship Id="rId22" Type="http://schemas.openxmlformats.org/officeDocument/2006/relationships/image" Target="../media/image23.jpeg"/><Relationship Id="rId23" Type="http://schemas.openxmlformats.org/officeDocument/2006/relationships/image" Target="../media/image24.gif"/><Relationship Id="rId2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enerate Your Own Glitter Graphics at GlitterYourWay.com"/>
          <p:cNvPicPr/>
          <p:nvPr/>
        </p:nvPicPr>
        <p:blipFill>
          <a:blip r:embed="rId1"/>
          <a:stretch/>
        </p:blipFill>
        <p:spPr>
          <a:xfrm>
            <a:off x="900000" y="189000"/>
            <a:ext cx="79218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Murray River"/>
          <p:cNvPicPr/>
          <p:nvPr/>
        </p:nvPicPr>
        <p:blipFill>
          <a:blip r:embed="rId2"/>
          <a:stretch/>
        </p:blipFill>
        <p:spPr>
          <a:xfrm>
            <a:off x="1547640" y="2060640"/>
            <a:ext cx="6516720" cy="43527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nity (high levels of sa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t of the native Flora and F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-green alg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en Fish (Ca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water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116000" y="1052640"/>
            <a:ext cx="6762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blems Faced By the Murray Rive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Algae stretches along the Murray Ri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76720" y="3860640"/>
            <a:ext cx="3959280" cy="259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4360" y="5157720"/>
            <a:ext cx="4176720" cy="1465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salt in the Murray River is destroying the the native plants and animals in the Murr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ired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level of salt in the Murray R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osed Actions an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inimize water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salinity levels ri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2920" y="549360"/>
            <a:ext cx="748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alinity and The Murr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9640" y="5013360"/>
            <a:ext cx="2735280" cy="165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016000" cy="102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16000" y="5734080"/>
            <a:ext cx="1943280" cy="100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d6009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st 50 years, populations of native fish species in the Murray River have suffered and is in danger of exti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he following 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water 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of damn, weir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tocking of introduced (al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ough food to be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plants for the ani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at  because the plants c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 in the Mu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56000" y="333360"/>
            <a:ext cx="388764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au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3529080" cy="3695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Black Swan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404640"/>
            <a:ext cx="208764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Flying Pelic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333360"/>
            <a:ext cx="1979640" cy="122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alt in the Murray river is way too high. The salt absorbs all the water from the plants leaving the plant unable to grow, as a result the Murray is left deso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ing and associated so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ance of reed banks to prov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the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or weeds and willow tr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over native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56000" y="333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lo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3500280"/>
            <a:ext cx="316692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f3f8"/>
            </a:gs>
            <a:gs pos="100000">
              <a:srgbClr val="8989f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2133720"/>
            <a:ext cx="3529080" cy="302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465800"/>
            <a:ext cx="4172040" cy="2392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Kangroo and Joe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75280" y="4842000"/>
            <a:ext cx="316872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08360" y="5013360"/>
            <a:ext cx="2592360" cy="1844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30840" y="0"/>
            <a:ext cx="251316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0"/>
            <a:ext cx="4032360" cy="194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The Unforgettable 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348000" y="0"/>
            <a:ext cx="345744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948360" y="2852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0" y="1268280"/>
            <a:ext cx="3960720" cy="2303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763640" y="299736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3213000"/>
            <a:ext cx="2340000" cy="165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Generate Your Own Glitter Graphics at GlitterYourWay.com"/>
          <p:cNvPicPr/>
          <p:nvPr/>
        </p:nvPicPr>
        <p:blipFill>
          <a:blip r:embed="rId23"/>
          <a:stretch/>
        </p:blipFill>
        <p:spPr>
          <a:xfrm>
            <a:off x="539640" y="2852640"/>
            <a:ext cx="8426520" cy="109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15:17Z</dcterms:created>
  <dc:creator>Primary School</dc:creator>
  <dc:description/>
  <dc:language>en-US</dc:language>
  <cp:lastModifiedBy>Primary School</cp:lastModifiedBy>
  <dcterms:modified xsi:type="dcterms:W3CDTF">2009-05-13T02:44:34Z</dcterms:modified>
  <cp:revision>5</cp:revision>
  <dc:subject/>
  <dc:title>Slide 1</dc:title>
</cp:coreProperties>
</file>